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7E03-5242-4AE3-A302-BF6FD3977C9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CBAC-BA01-49AD-B785-61DA5270EB8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262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40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4949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414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03e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3938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3938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 czerwca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"Zdrowie Publiczne Podstawą Polityki Zdrowotnej Państwa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76680" y="6237360"/>
            <a:ext cx="218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I MIĘDZYNARODOWY KONG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ZDROWIA PUBLICZNE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3627360" y="48960"/>
            <a:ext cx="2074680" cy="2066040"/>
            <a:chOff x="3627360" y="48960"/>
            <a:chExt cx="2074680" cy="2066040"/>
          </a:xfrm>
        </p:grpSpPr>
        <p:grpSp>
          <p:nvGrpSpPr>
            <p:cNvPr id="265" name=""/>
            <p:cNvGrpSpPr/>
            <p:nvPr/>
          </p:nvGrpSpPr>
          <p:grpSpPr>
            <a:xfrm>
              <a:off x="3627360" y="48960"/>
              <a:ext cx="2074680" cy="2066040"/>
              <a:chOff x="3627360" y="48960"/>
              <a:chExt cx="2074680" cy="2066040"/>
            </a:xfrm>
          </p:grpSpPr>
          <p:sp>
            <p:nvSpPr>
              <p:cNvPr id="266" name=""/>
              <p:cNvSpPr/>
              <p:nvPr/>
            </p:nvSpPr>
            <p:spPr>
              <a:xfrm>
                <a:off x="3741840" y="219240"/>
                <a:ext cx="1838160" cy="1769760"/>
              </a:xfrm>
              <a:prstGeom prst="ellipse">
                <a:avLst/>
              </a:prstGeom>
              <a:solidFill>
                <a:srgbClr val="000080"/>
              </a:solidFill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962160" y="430920"/>
                <a:ext cx="1397160" cy="134604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309200" y="691920"/>
                <a:ext cx="698760" cy="820440"/>
              </a:xfrm>
              <a:prstGeom prst="rect">
                <a:avLst/>
              </a:prstGeom>
              <a:solidFill>
                <a:srgbClr val="008080"/>
              </a:solidFill>
              <a:ln w="316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33960" y="759960"/>
                <a:ext cx="853920" cy="677880"/>
              </a:xfrm>
              <a:prstGeom prst="rect">
                <a:avLst/>
              </a:prstGeom>
              <a:solidFill>
                <a:srgbClr val="008080"/>
              </a:solidFill>
              <a:ln w="316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 rot="2340000">
                <a:off x="3913920" y="360360"/>
                <a:ext cx="1501200" cy="14428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Circle">
                  <a:avLst>
                    <a:gd name="adj" fmla="val 1086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1" strike="noStrike">
                    <a:ln w="0">
                      <a:noFill/>
                    </a:ln>
                    <a:solidFill>
                      <a:srgbClr val="008080"/>
                    </a:solidFill>
                    <a:latin typeface="Arial Black"/>
                  </a:rPr>
                  <a:t>PAŃSTWOWA                                                          </a:t>
                </a:r>
                <a:endParaRPr b="0" lang="en-US" sz="1000" spc="1" strike="noStrike">
                  <a:ln w="0">
                    <a:noFill/>
                  </a:ln>
                  <a:solidFill>
                    <a:srgbClr val="00808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 rot="21000000">
                <a:off x="3870360" y="495360"/>
                <a:ext cx="1603800" cy="14162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1" strike="noStrike">
                    <a:ln w="0">
                      <a:noFill/>
                    </a:ln>
                    <a:solidFill>
                      <a:srgbClr val="008080"/>
                    </a:solidFill>
                    <a:latin typeface="Arial Black"/>
                  </a:rPr>
                  <a:t>INSPEKCJA SANITARNA    </a:t>
                </a:r>
                <a:endParaRPr b="0" lang="en-US" sz="1000" spc="1" strike="noStrike">
                  <a:ln w="0">
                    <a:noFill/>
                  </a:ln>
                  <a:solidFill>
                    <a:srgbClr val="008080"/>
                  </a:solidFill>
                  <a:latin typeface="Arial Black"/>
                  <a:ea typeface="Arial Black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8200" y="774360"/>
                <a:ext cx="659880" cy="659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3" name=""/>
            <p:cNvSpPr/>
            <p:nvPr/>
          </p:nvSpPr>
          <p:spPr>
            <a:xfrm>
              <a:off x="4321440" y="1430640"/>
              <a:ext cx="671040" cy="489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21440" y="721440"/>
              <a:ext cx="671040" cy="493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22160" y="2205000"/>
            <a:ext cx="7512120" cy="0"/>
          </a:xfrm>
          <a:prstGeom prst="line">
            <a:avLst/>
          </a:prstGeom>
          <a:ln w="38160">
            <a:solidFill>
              <a:srgbClr val="ca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7680" y="4473720"/>
            <a:ext cx="8175600" cy="34920"/>
          </a:xfrm>
          <a:prstGeom prst="line">
            <a:avLst/>
          </a:prstGeom>
          <a:ln w="38160">
            <a:solidFill>
              <a:srgbClr val="ca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2276640"/>
            <a:ext cx="845028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lbertus"/>
              </a:rPr>
              <a:t>Szczepić dlaczego warto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Państwowa Inspekcja Sanitarna a zdrowie publicz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lbertus"/>
              </a:rPr>
              <a:t>Sesja panelowa I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Krztusiec</a:t>
            </a:r>
            <a:br>
              <a:rPr sz="48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Zapadalność i umieralność w latach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523880" y="1555920"/>
            <a:ext cx="7301160" cy="45417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436760" cy="15127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0" y="3357720"/>
            <a:ext cx="2252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99"/>
                </a:solidFill>
                <a:latin typeface="Arial"/>
              </a:rPr>
              <a:t>Prof.. A. Zielińsk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99"/>
                </a:solidFill>
                <a:latin typeface="Arial"/>
              </a:rPr>
              <a:t>IV Europejski Tydzień Szczepień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ffff99"/>
                </a:solidFill>
                <a:latin typeface="Arial"/>
              </a:rPr>
              <a:t>20-26 kwietnia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99"/>
                </a:solidFill>
                <a:latin typeface="Arial"/>
              </a:rPr>
              <a:t>Poliomyelitis</a:t>
            </a:r>
            <a:br>
              <a:rPr sz="4400"/>
            </a:br>
            <a:r>
              <a:rPr b="0" lang="pl-PL" sz="2400" spc="-1" strike="noStrike">
                <a:solidFill>
                  <a:srgbClr val="ffff99"/>
                </a:solidFill>
                <a:latin typeface="Arial"/>
              </a:rPr>
              <a:t>Zapadalność i umieralność w latach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85880" y="1757520"/>
            <a:ext cx="6497640" cy="40431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436760" cy="15127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0" y="3357720"/>
            <a:ext cx="2252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99"/>
                </a:solidFill>
                <a:latin typeface="Arial"/>
              </a:rPr>
              <a:t>Prof.. A. Zielińsk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99"/>
                </a:solidFill>
                <a:latin typeface="Arial"/>
              </a:rPr>
              <a:t>IV Europejski Tydzień Szczepień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ffff99"/>
                </a:solidFill>
                <a:latin typeface="Arial"/>
              </a:rPr>
              <a:t>20-26 kwietnia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dra</a:t>
            </a:r>
            <a:br>
              <a:rPr sz="4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Zapadalność i umieralność w latach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787400" y="1960560"/>
            <a:ext cx="6986880" cy="4348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436760" cy="15127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0" y="3357720"/>
            <a:ext cx="2252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99"/>
                </a:solidFill>
                <a:latin typeface="Arial"/>
              </a:rPr>
              <a:t>Prof.. A. Zielińsk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99"/>
                </a:solidFill>
                <a:latin typeface="Arial"/>
              </a:rPr>
              <a:t>IV Europejski Tydzień Szczepień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ffff99"/>
                </a:solidFill>
                <a:latin typeface="Arial"/>
              </a:rPr>
              <a:t>20-26 kwietnia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ZW typu B</a:t>
            </a:r>
            <a:br>
              <a:rPr sz="4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Zapadalność w latach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482840" y="1757520"/>
            <a:ext cx="7342200" cy="44560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436760" cy="1512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0" y="4869000"/>
            <a:ext cx="2252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99"/>
                </a:solidFill>
                <a:latin typeface="Arial"/>
              </a:rPr>
              <a:t>Prof.. A. Zielińsk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99"/>
                </a:solidFill>
                <a:latin typeface="Arial"/>
              </a:rPr>
              <a:t>IV Europejski Tydzień Szczepień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ffff99"/>
                </a:solidFill>
                <a:latin typeface="Arial"/>
              </a:rPr>
              <a:t>20-26 kwietnia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czepić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, wart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839000" cy="1743120"/>
          </a:xfrm>
          <a:prstGeom prst="rect">
            <a:avLst/>
          </a:prstGeom>
          <a:noFill/>
          <a:ln w="0">
            <a:noFill/>
          </a:ln>
        </p:spPr>
        <p:txBody>
          <a:bodyPr lIns="90000" rIns="212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Didot"/>
              </a:rPr>
              <a:t>Program Szczepień Ochronnych</a:t>
            </a:r>
            <a:endParaRPr b="0" lang="en-US" sz="4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5680" y="1989000"/>
            <a:ext cx="89726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21240" tIns="46800" bIns="46800" anchor="ctr">
            <a:normAutofit fontScale="98000"/>
          </a:bodyPr>
          <a:p>
            <a:pPr marL="261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f00"/>
                </a:solidFill>
                <a:latin typeface="Arial"/>
              </a:rPr>
              <a:t>na co wydać pieniądz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1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1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f00"/>
                </a:solidFill>
                <a:latin typeface="Arial"/>
              </a:rPr>
              <a:t>medycyna naprawcza cz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1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1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f0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ff0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0f00"/>
                </a:solidFill>
                <a:latin typeface="Arial"/>
              </a:rPr>
              <a:t>profilaktyka = szczepienia..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6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ystem finansowania obowiązkowych szczepień ochronnych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50920" y="1844640"/>
          <a:ext cx="8713440" cy="4116600"/>
        </p:xfrm>
        <a:graphic>
          <a:graphicData uri="http://schemas.openxmlformats.org/drawingml/2006/table">
            <a:tbl>
              <a:tblPr/>
              <a:tblGrid>
                <a:gridCol w="1742040"/>
                <a:gridCol w="2198520"/>
                <a:gridCol w="2198520"/>
                <a:gridCol w="2574360"/>
              </a:tblGrid>
              <a:tr h="106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Osoby nieubezpiecz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obecny stan praw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Osoby ubezpiecz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obecny stan praw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Ustalanie zakresów              i terminów szczepień oraz sprawowanie nadzo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Badanie kwalifikacyj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er Zdrow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odowy Fundusz  Zdrow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ństwowa Inspekcja Sanitar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Szczepieni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er Zdrow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odowy Fundusz  Zdrow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ństwowa Inspekcja Sanitar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Prepar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szczepionkow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er Zdrow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er Zdrow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ństwowa Inspekcja Sanitar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52120" y="160200"/>
            <a:ext cx="7839000" cy="1743120"/>
          </a:xfrm>
          <a:prstGeom prst="rect">
            <a:avLst/>
          </a:prstGeom>
          <a:noFill/>
          <a:ln w="0">
            <a:noFill/>
          </a:ln>
        </p:spPr>
        <p:txBody>
          <a:bodyPr lIns="90000" rIns="212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Didot"/>
              </a:rPr>
              <a:t>wydatki na Program Szczepień Ochronnych w mln. zł</a:t>
            </a:r>
            <a:endParaRPr b="0" lang="en-US" sz="42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95280" y="1844640"/>
          <a:ext cx="828216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8216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63640" y="115920"/>
            <a:ext cx="59040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212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99"/>
                </a:solidFill>
                <a:latin typeface="Didot"/>
              </a:rPr>
              <a:t>PSO </a:t>
            </a:r>
            <a:r>
              <a:rPr b="0" lang="en-US" sz="3600" spc="-1" strike="noStrike">
                <a:solidFill>
                  <a:srgbClr val="ffff99"/>
                </a:solidFill>
                <a:latin typeface="Didot"/>
              </a:rPr>
              <a:t>0-6 lat</a:t>
            </a:r>
            <a:br>
              <a:rPr sz="1400"/>
            </a:b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0" y="1844640"/>
          <a:ext cx="9144000" cy="4321080"/>
        </p:xfrm>
        <a:graphic>
          <a:graphicData uri="http://schemas.openxmlformats.org/drawingml/2006/table">
            <a:tbl>
              <a:tblPr/>
              <a:tblGrid>
                <a:gridCol w="1344600"/>
                <a:gridCol w="619200"/>
                <a:gridCol w="604800"/>
                <a:gridCol w="652320"/>
                <a:gridCol w="603360"/>
                <a:gridCol w="601560"/>
                <a:gridCol w="592200"/>
                <a:gridCol w="663480"/>
                <a:gridCol w="676440"/>
                <a:gridCol w="563400"/>
                <a:gridCol w="592200"/>
                <a:gridCol w="441360"/>
                <a:gridCol w="1189080"/>
              </a:tblGrid>
              <a:tr h="465480">
                <a:tc>
                  <a:txBody>
                    <a:bodyPr lIns="21600" rIns="21600" tIns="126000" bIns="216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- 24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m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/4 m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m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/7 m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m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m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/18 m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la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la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l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l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Tb</a:t>
                      </a:r>
                      <a:r>
                        <a:rPr b="0" lang="pl-PL" sz="17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 (BCG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gradFill rotWithShape="0">
                      <a:gsLst>
                        <a:gs pos="0">
                          <a:srgbClr val="ff00ff"/>
                        </a:gs>
                        <a:gs pos="100000">
                          <a:srgbClr val="46455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feff"/>
                          </a:solidFill>
                          <a:latin typeface="Arial"/>
                        </a:rPr>
                        <a:t>Hepatitis 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gradFill rotWithShape="0">
                      <a:gsLst>
                        <a:gs pos="0">
                          <a:srgbClr val="00feff"/>
                        </a:gs>
                        <a:gs pos="100000">
                          <a:srgbClr val="46455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gradFill rotWithShape="0">
                      <a:gsLst>
                        <a:gs pos="0">
                          <a:srgbClr val="00feff"/>
                        </a:gs>
                        <a:gs pos="100000">
                          <a:srgbClr val="46455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f00"/>
                          </a:solidFill>
                          <a:latin typeface="Arial"/>
                        </a:rPr>
                        <a:t>DTP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gradFill rotWithShape="0">
                      <a:gsLst>
                        <a:gs pos="0">
                          <a:srgbClr val="ff0f00"/>
                        </a:gs>
                        <a:gs pos="100000">
                          <a:srgbClr val="464558"/>
                        </a:gs>
                      </a:gsLst>
                      <a:lin ang="5400000"/>
                    </a:gradFill>
                  </a:tcPr>
                </a:tc>
              </a:tr>
              <a:tr h="574560"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c00ff"/>
                          </a:solidFill>
                          <a:latin typeface="Arial"/>
                        </a:rPr>
                        <a:t>IPV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gradFill rotWithShape="0">
                      <a:gsLst>
                        <a:gs pos="0">
                          <a:srgbClr val="1c00ff"/>
                        </a:gs>
                        <a:gs pos="100000">
                          <a:srgbClr val="464558"/>
                        </a:gs>
                      </a:gsLst>
                      <a:lin ang="5400000"/>
                    </a:gradFill>
                  </a:tcPr>
                </a:tc>
              </a:tr>
              <a:tr h="574560"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Hi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cff00"/>
                          </a:solidFill>
                          <a:latin typeface="Arial"/>
                        </a:rPr>
                        <a:t>MM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gradFill rotWithShape="0">
                      <a:gsLst>
                        <a:gs pos="0">
                          <a:srgbClr val="fcff00"/>
                        </a:gs>
                        <a:gs pos="100000">
                          <a:srgbClr val="46455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zba iniekcji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4920" y="114480"/>
            <a:ext cx="8064360" cy="1010880"/>
          </a:xfrm>
          <a:prstGeom prst="rect">
            <a:avLst/>
          </a:prstGeom>
          <a:noFill/>
          <a:ln w="0">
            <a:noFill/>
          </a:ln>
        </p:spPr>
        <p:txBody>
          <a:bodyPr lIns="90000" rIns="212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99"/>
                </a:solidFill>
                <a:latin typeface="Didot"/>
              </a:rPr>
              <a:t>PSO </a:t>
            </a:r>
            <a:r>
              <a:rPr b="0" lang="en-US" sz="2400" spc="-1" strike="noStrike">
                <a:solidFill>
                  <a:srgbClr val="ffff99"/>
                </a:solidFill>
                <a:latin typeface="Didot"/>
              </a:rPr>
              <a:t>0-6 lat </a:t>
            </a:r>
            <a:r>
              <a:rPr b="0" lang="pl-PL" sz="2400" spc="-1" strike="noStrike">
                <a:solidFill>
                  <a:srgbClr val="ffff99"/>
                </a:solidFill>
                <a:latin typeface="Didot"/>
              </a:rPr>
              <a:t>w grupach ryzyka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1386000"/>
          <a:ext cx="9144000" cy="5472000"/>
        </p:xfrm>
        <a:graphic>
          <a:graphicData uri="http://schemas.openxmlformats.org/drawingml/2006/table">
            <a:tbl>
              <a:tblPr/>
              <a:tblGrid>
                <a:gridCol w="1476360"/>
                <a:gridCol w="647640"/>
                <a:gridCol w="503280"/>
                <a:gridCol w="593640"/>
                <a:gridCol w="603360"/>
                <a:gridCol w="601560"/>
                <a:gridCol w="592200"/>
                <a:gridCol w="663480"/>
                <a:gridCol w="676440"/>
                <a:gridCol w="563400"/>
                <a:gridCol w="592200"/>
                <a:gridCol w="587520"/>
                <a:gridCol w="1042920"/>
              </a:tblGrid>
              <a:tr h="465480">
                <a:tc>
                  <a:txBody>
                    <a:bodyPr lIns="21600" rIns="21600" tIns="126000" bIns="216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- 24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m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/4 m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m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/7 m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m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m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/18 m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la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la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l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l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Tb</a:t>
                      </a:r>
                      <a:r>
                        <a:rPr b="0" lang="pl-PL" sz="17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 (BCG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gradFill rotWithShape="0">
                      <a:gsLst>
                        <a:gs pos="0">
                          <a:srgbClr val="ff00ff"/>
                        </a:gs>
                        <a:gs pos="100000">
                          <a:srgbClr val="46455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feff"/>
                          </a:solidFill>
                          <a:latin typeface="Arial"/>
                        </a:rPr>
                        <a:t>Hepatitis 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gradFill rotWithShape="0">
                      <a:gsLst>
                        <a:gs pos="0">
                          <a:srgbClr val="00feff"/>
                        </a:gs>
                        <a:gs pos="100000">
                          <a:srgbClr val="46455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gradFill rotWithShape="0">
                      <a:gsLst>
                        <a:gs pos="0">
                          <a:srgbClr val="00feff"/>
                        </a:gs>
                        <a:gs pos="100000">
                          <a:srgbClr val="46455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f00"/>
                          </a:solidFill>
                          <a:latin typeface="Arial"/>
                        </a:rPr>
                        <a:t>DTP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gradFill rotWithShape="0">
                      <a:gsLst>
                        <a:gs pos="0">
                          <a:srgbClr val="ff0f00"/>
                        </a:gs>
                        <a:gs pos="100000">
                          <a:srgbClr val="464558"/>
                        </a:gs>
                      </a:gsLst>
                      <a:lin ang="5400000"/>
                    </a:gradFill>
                  </a:tcPr>
                </a:tc>
              </a:tr>
              <a:tr h="574560"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c00ff"/>
                          </a:solidFill>
                          <a:latin typeface="Arial"/>
                        </a:rPr>
                        <a:t>IPV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gradFill rotWithShape="0">
                      <a:gsLst>
                        <a:gs pos="0">
                          <a:srgbClr val="1c00ff"/>
                        </a:gs>
                        <a:gs pos="100000">
                          <a:srgbClr val="464558"/>
                        </a:gs>
                      </a:gsLst>
                      <a:lin ang="5400000"/>
                    </a:gradFill>
                  </a:tcPr>
                </a:tc>
              </a:tr>
              <a:tr h="574560"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Hi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cff00"/>
                          </a:solidFill>
                          <a:latin typeface="Arial"/>
                        </a:rPr>
                        <a:t>MM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gradFill rotWithShape="0">
                      <a:gsLst>
                        <a:gs pos="0">
                          <a:srgbClr val="fcff00"/>
                        </a:gs>
                        <a:gs pos="100000">
                          <a:srgbClr val="46455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neumococca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cell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czba iniekcji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212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Didot"/>
              </a:rPr>
              <a:t>Program Szczepień Ochronnych  </a:t>
            </a:r>
            <a:r>
              <a:rPr b="0" lang="pl-PL" sz="3200" spc="-1" strike="noStrike">
                <a:solidFill>
                  <a:srgbClr val="ffff99"/>
                </a:solidFill>
                <a:latin typeface="Didot"/>
              </a:rPr>
              <a:t>7</a:t>
            </a:r>
            <a:r>
              <a:rPr b="0" lang="en-US" sz="3200" spc="-1" strike="noStrike">
                <a:solidFill>
                  <a:srgbClr val="ffff99"/>
                </a:solidFill>
                <a:latin typeface="Didot"/>
              </a:rPr>
              <a:t> - 19 lat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835280" y="1413000"/>
          <a:ext cx="5673600" cy="4340160"/>
        </p:xfrm>
        <a:graphic>
          <a:graphicData uri="http://schemas.openxmlformats.org/drawingml/2006/table">
            <a:tbl>
              <a:tblPr/>
              <a:tblGrid>
                <a:gridCol w="1520640"/>
                <a:gridCol w="1284480"/>
                <a:gridCol w="1346040"/>
                <a:gridCol w="1522440"/>
              </a:tblGrid>
              <a:tr h="917280">
                <a:tc>
                  <a:txBody>
                    <a:bodyPr lIns="21600" rIns="21600" tIns="126000" bIns="216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l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l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l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9e007f"/>
                      </a:solidFill>
                    </a:lnR>
                    <a:lnT w="1368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feff"/>
                          </a:solidFill>
                          <a:latin typeface="Arial"/>
                        </a:rPr>
                        <a:t>Hepatitis 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gradFill rotWithShape="0">
                      <a:gsLst>
                        <a:gs pos="0">
                          <a:srgbClr val="00feff"/>
                        </a:gs>
                        <a:gs pos="100000">
                          <a:srgbClr val="46455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9e007f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f00"/>
                          </a:solidFill>
                          <a:latin typeface="Arial"/>
                        </a:rPr>
                        <a:t>T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gradFill rotWithShape="0">
                      <a:gsLst>
                        <a:gs pos="0">
                          <a:srgbClr val="ff0f00"/>
                        </a:gs>
                        <a:gs pos="100000">
                          <a:srgbClr val="46455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9e007f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gradFill rotWithShape="0">
                      <a:gsLst>
                        <a:gs pos="0">
                          <a:srgbClr val="ff0f00"/>
                        </a:gs>
                        <a:gs pos="100000">
                          <a:srgbClr val="464558"/>
                        </a:gs>
                      </a:gsLst>
                      <a:lin ang="5400000"/>
                    </a:gradFill>
                  </a:tcPr>
                </a:tc>
              </a:tr>
              <a:tr h="855720"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cff00"/>
                          </a:solidFill>
                          <a:latin typeface="Arial"/>
                        </a:rPr>
                        <a:t>MM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gradFill rotWithShape="0">
                      <a:gsLst>
                        <a:gs pos="0">
                          <a:srgbClr val="fcff00"/>
                        </a:gs>
                        <a:gs pos="100000">
                          <a:srgbClr val="46455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9e007f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fcff00"/>
                          </a:solidFill>
                          <a:latin typeface="Arial"/>
                        </a:rPr>
                        <a:t>Liczba iniekcji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368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1c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21600" rIns="21600" tIns="126000" bIns="216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5760">
                      <a:solidFill>
                        <a:srgbClr val="33cccc"/>
                      </a:solidFill>
                    </a:lnL>
                    <a:lnR w="13680">
                      <a:solidFill>
                        <a:srgbClr val="9e007f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13680">
                      <a:solidFill>
                        <a:srgbClr val="33cccc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21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Program szczepie</a:t>
            </a:r>
            <a:r>
              <a:rPr b="0" lang="en-US" sz="4000" spc="-1" strike="noStrike">
                <a:solidFill>
                  <a:srgbClr val="ffff99"/>
                </a:solidFill>
                <a:latin typeface="ヒラギノ角ゴ Pro W3"/>
              </a:rPr>
              <a:t>ń - problemy..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6920" y="1341360"/>
            <a:ext cx="7129800" cy="4608720"/>
          </a:xfrm>
          <a:prstGeom prst="rect">
            <a:avLst/>
          </a:prstGeom>
          <a:noFill/>
          <a:ln w="0">
            <a:noFill/>
          </a:ln>
        </p:spPr>
        <p:txBody>
          <a:bodyPr lIns="15840" rIns="1080" tIns="15840" bIns="15840" anchor="ctr">
            <a:normAutofit fontScale="93000"/>
          </a:bodyPr>
          <a:p>
            <a:pPr marL="13320">
              <a:lnSpc>
                <a:spcPct val="80000"/>
              </a:lnSpc>
              <a:spcBef>
                <a:spcPts val="700"/>
              </a:spcBef>
              <a:buSzPct val="1285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zęste wizyty w punkcie szczepie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3320">
              <a:lnSpc>
                <a:spcPct val="80000"/>
              </a:lnSpc>
              <a:spcBef>
                <a:spcPts val="9300"/>
              </a:spcBef>
              <a:buSzPct val="1285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lka zastrzyków równocześni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3320">
              <a:lnSpc>
                <a:spcPct val="80000"/>
              </a:lnSpc>
              <a:spcBef>
                <a:spcPts val="9300"/>
              </a:spcBef>
              <a:buSzPct val="1285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chy antyszczepionkowe”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3320">
              <a:lnSpc>
                <a:spcPct val="80000"/>
              </a:lnSpc>
              <a:spcBef>
                <a:spcPts val="9300"/>
              </a:spcBef>
              <a:buSzPct val="1285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piej przechorować naturalnie..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Elementy kosztu szczepienia ochronnego </a:t>
            </a:r>
            <a:br>
              <a:rPr sz="2400"/>
            </a:b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ze względu na tryb finansowania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76280" y="1533600"/>
          <a:ext cx="822960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533600"/>
                    <a:ext cx="822960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łonica</a:t>
            </a:r>
            <a:br>
              <a:rPr sz="4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Zapadalność i umieralność w latach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838160" y="1905120"/>
          <a:ext cx="6936120" cy="43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8160" y="1905120"/>
                    <a:ext cx="693612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1436760" cy="15127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0" y="3357720"/>
            <a:ext cx="2252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99"/>
                </a:solidFill>
                <a:latin typeface="Arial"/>
              </a:rPr>
              <a:t>Prof.. A. Zielińsk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99"/>
                </a:solidFill>
                <a:latin typeface="Arial"/>
              </a:rPr>
              <a:t>IV Europejski Tydzień Szczepień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ffff99"/>
                </a:solidFill>
                <a:latin typeface="Arial"/>
              </a:rPr>
              <a:t>20-26 kwietnia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05:51:40Z</dcterms:created>
  <dc:creator>wdebinski</dc:creator>
  <dc:description/>
  <dc:language>en-US</dc:language>
  <cp:lastModifiedBy>tszkoda</cp:lastModifiedBy>
  <dcterms:modified xsi:type="dcterms:W3CDTF">2009-06-24T11:15:50Z</dcterms:modified>
  <cp:revision>154</cp:revision>
  <dc:subject/>
  <dc:title>Slajd 1</dc:title>
</cp:coreProperties>
</file>