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0080" y="601668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08804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912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94816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008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912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94816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41600" y="134640"/>
            <a:ext cx="1008216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08804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70080" y="601668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08804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912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948160" y="293220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7008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0912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948160" y="6016680"/>
            <a:ext cx="36558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41600" y="134640"/>
            <a:ext cx="1008216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88040" y="601668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088040" y="2932200"/>
            <a:ext cx="554040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0080" y="6016680"/>
            <a:ext cx="11353680" cy="28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Gill Sans"/>
              </a:rPr>
              <a:t>Click to edit the title text format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770760" indent="-52560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79720" indent="-52560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89040" indent="-52560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98000" indent="-525600">
              <a:spcBef>
                <a:spcPts val="2401"/>
              </a:spcBef>
              <a:buClr>
                <a:srgbClr val="ff66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406600" indent="-525600">
              <a:spcBef>
                <a:spcPts val="2401"/>
              </a:spcBef>
              <a:buClr>
                <a:srgbClr val="ff66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406600" indent="-52560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406600" indent="-52560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65240" y="196920"/>
            <a:ext cx="221616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54320" y="9204480"/>
            <a:ext cx="10750320" cy="550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Gill Sans"/>
              </a:rPr>
              <a:t>IV Europejski Tydzień Szczepień, 20-26 kwietnia 2009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869400" y="8328600"/>
            <a:ext cx="51552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6600"/>
                </a:solidFill>
                <a:latin typeface="Gill Sans"/>
              </a:rPr>
              <a:t>A. Zieliński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03040" y="-19080"/>
            <a:ext cx="7020000" cy="763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46680" y="41292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ff6600"/>
                </a:solidFill>
                <a:latin typeface="Gill Sans"/>
              </a:rPr>
              <a:t>IV Europejski Tydzień Szczepień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ff6600"/>
                </a:solidFill>
                <a:latin typeface="Gill Sans"/>
              </a:rPr>
              <a:t>20-26 kwietnia 2009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9600" y="3004920"/>
            <a:ext cx="11736360" cy="30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Gill Sans"/>
              </a:rPr>
              <a:t>Click to edit the title text format</a:t>
            </a:r>
            <a:endParaRPr b="1" lang="en-US" sz="7200" spc="-1" strike="noStrike">
              <a:solidFill>
                <a:srgbClr val="003399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ill Sans"/>
              </a:rPr>
              <a:t>Click to edit the outline text format</a:t>
            </a:r>
            <a:endParaRPr b="1" lang="en-US" sz="4200" spc="-1" strike="noStrike">
              <a:solidFill>
                <a:srgbClr val="003399"/>
              </a:solidFill>
              <a:latin typeface="Gill Sans"/>
            </a:endParaRPr>
          </a:p>
          <a:p>
            <a:pPr lvl="1" marL="1550880" indent="-57132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2" marL="2301840" indent="-57132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052800" indent="-571680">
              <a:spcBef>
                <a:spcPts val="2401"/>
              </a:spcBef>
              <a:buClr>
                <a:srgbClr val="ff6600"/>
              </a:buClr>
              <a:buSzPct val="171000"/>
              <a:buFont typeface="Lucida Grande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3803760" indent="-571680">
              <a:spcBef>
                <a:spcPts val="2401"/>
              </a:spcBef>
              <a:buClr>
                <a:srgbClr val="ff6600"/>
              </a:buClr>
              <a:buSzPct val="171000"/>
              <a:buFont typeface="Lucida Grande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3803760" indent="-571680">
              <a:spcBef>
                <a:spcPts val="6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3803760" indent="-571680">
              <a:spcBef>
                <a:spcPts val="6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600" y="3004920"/>
            <a:ext cx="11736360" cy="30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003399"/>
                </a:solidFill>
                <a:latin typeface="Gill Sans"/>
              </a:rPr>
              <a:t>Historia i przyszłość szczepień</a:t>
            </a:r>
            <a:endParaRPr b="1" lang="en-US" sz="7200" spc="-1" strike="noStrike">
              <a:solidFill>
                <a:srgbClr val="003399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50840" y="6921360"/>
            <a:ext cx="9102600" cy="24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3399"/>
                </a:solidFill>
                <a:latin typeface="Gill Sans"/>
              </a:rPr>
              <a:t>Prof. dr hab. Andrzej Zieliński</a:t>
            </a:r>
            <a:endParaRPr b="1" lang="en-US" sz="3800" spc="-1" strike="noStrike">
              <a:solidFill>
                <a:srgbClr val="003399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3399"/>
                </a:solidFill>
                <a:latin typeface="Gill Sans"/>
              </a:rPr>
              <a:t>Zakład Epidemiologii</a:t>
            </a:r>
            <a:endParaRPr b="1" lang="en-US" sz="3400" spc="-1" strike="noStrike">
              <a:solidFill>
                <a:srgbClr val="003399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3399"/>
                </a:solidFill>
                <a:latin typeface="Gill Sans"/>
              </a:rPr>
              <a:t>Narodowego Instytutu Zdrowia Publicznego</a:t>
            </a:r>
            <a:endParaRPr b="1" lang="en-US" sz="3400" spc="-1" strike="noStrike">
              <a:solidFill>
                <a:srgbClr val="003399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Szczepionki zabite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1886 Elmer Salmon &amp; Theobald Smith stwierdzili, że ogrzanie zawiesiny bakterii wywołujących salmonellozę u świń pozbawia je wirulencji, ale pozwala zachować zdolność wywoływania odporności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Pierwsze szczepionki „zabite” stosowane u ludzi: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Dur brzuszny (1896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Cholera (1896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Dżuma (1897)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Białka i polisacharydy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Gill Sans"/>
              </a:rPr>
              <a:t>1890 Behring stwierdził, że toksyna błonicza podana zwierzętom wywołuje powstanie „surowicy odpornościowej” skutecznej w zapobieganiu skutkom zakażenia maczugowcem błonicy. 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Gill Sans"/>
              </a:rPr>
              <a:t>1907 Theobald Smith stwierdził, że unieczynniona toksyna – toksoid jest w stanie wywołać odporność przeciw błonicy u świnek morskich.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Gill Sans"/>
              </a:rPr>
              <a:t>Pierwszymi szczepionkami, które nie wykorzystywały całych bakterii, a tylko ich wyizolowane i unieczynnione  fragmenty były: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1923 Szczepionka przeciw błonicy (toksoid błoniczy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1926 Szczepionka przeciw tężcowi (toksoid tężcowy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Szczepionki skoniugowane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-56556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1929 Avery &amp; Goebel stwierdzili, że immunogenność szczepionki polisacharydowej wzrasta, gdy polisacharyd jest skoniugowany z nośnikiem białkowym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69720" indent="-56556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800" spc="-1" strike="noStrike">
                <a:solidFill>
                  <a:srgbClr val="000000"/>
                </a:solidFill>
                <a:latin typeface="Gill Sans"/>
              </a:rPr>
              <a:t>Haemophilus influenzae</a:t>
            </a: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 typu B (1980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269720" indent="-56556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Meningokoki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269720" indent="-565560"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Pneumokoki (2000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Szczepionki rekombinowane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Metoda polega na wprowadzaniu DNA plazmidów do hodowli komórkowych, które następnie produkują antygeny szczepionkowe wywołujące pożądaną odpowiedź immunologiczną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Gill Sans"/>
              </a:rPr>
              <a:t>wzw B (1986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Gill Sans"/>
              </a:rPr>
              <a:t>Borelioza z Lyme (wycofana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Gill Sans"/>
              </a:rPr>
              <a:t>Cholera (toksyna B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Gill Sans"/>
              </a:rPr>
              <a:t>HPV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Gill Sans"/>
              </a:rPr>
              <a:t>Liczne szczepionki w procesie tworzeni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Szczepionki DNA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0000"/>
                </a:solidFill>
                <a:latin typeface="Gill Sans"/>
              </a:rPr>
              <a:t>Trwają próby podawania jako szczepionki nici DNA, które po wniknięciu do komórek osobnika zaszczepionego mogłoby uruchomić produkcję antygenu o pożądanych własnościach immunologicznyc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Podstawowe kierunki rozwoju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000000"/>
                </a:solidFill>
                <a:latin typeface="Gill Sans"/>
              </a:rPr>
              <a:t>Szczepionki wieloskładnikow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000000"/>
                </a:solidFill>
                <a:latin typeface="Gill Sans"/>
              </a:rPr>
              <a:t>Szczepionki dla dorosłych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000000"/>
                </a:solidFill>
                <a:latin typeface="Gill Sans"/>
              </a:rPr>
              <a:t>Szczepionki przeciw wirusom o dużej zmienności (HIV, wzw C, grypa bez NS)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000000"/>
                </a:solidFill>
                <a:latin typeface="Gill Sans"/>
              </a:rPr>
              <a:t>Szczepionki przeciw chorobom pasożytniczym – malaria, toksoplazmoza, schistozomiaza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000000"/>
                </a:solidFill>
                <a:latin typeface="Gill Sans"/>
              </a:rPr>
              <a:t>Szczepionki przeciw nowotworom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Gill Sans"/>
              </a:rPr>
              <a:t>Występującym w chorobach wirusowych (wzw, HPV)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Gill Sans"/>
              </a:rPr>
              <a:t>Rozwijającym się w organizmie (neuroblastoma)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Sytuacja w Polsce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000000"/>
                </a:solidFill>
                <a:latin typeface="Gill Sans"/>
              </a:rPr>
              <a:t>Dobre pokrycie szczepieniami obowiązkowymi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000000"/>
                </a:solidFill>
                <a:latin typeface="Gill Sans"/>
              </a:rPr>
              <a:t>Niedostateczne pokrycie szczepieniami zalecanymi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000000"/>
                </a:solidFill>
                <a:latin typeface="Gill Sans"/>
              </a:rPr>
              <a:t>Pilne korekty kalendarza szczepień: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Gill Sans"/>
              </a:rPr>
              <a:t>Szczepionka przeciw pneumokokom dla wszystkich do 2 r. ż.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Gill Sans"/>
              </a:rPr>
              <a:t>Szczepionka przeciw ospie wietrznej dla dzieci w 2 r. ż. 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Sytuacja w Polsce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Gill Sans"/>
              </a:rPr>
              <a:t>Perspektywa bliska: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3960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Szczepionki skojarzon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3960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Krztusiec bezkomórkowy + zalecany dla wybranych grup dorosłych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3960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Rotawirusy dla dzieci w 1 r. ż.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3960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Szczepionka przeciw HPV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39600">
              <a:lnSpc>
                <a:spcPct val="8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ill Sans"/>
              </a:rPr>
              <a:t>Szczepienia przeciw meningokokom wg. sytuacji epidemiologicznej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16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marL="5716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700" spc="-1" strike="noStrike">
                <a:solidFill>
                  <a:srgbClr val="ff6600"/>
                </a:solidFill>
                <a:latin typeface="Gill Sans"/>
              </a:rPr>
              <a:t>Konieczna jest stała intensywna promocja szczepień zalecanych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Błonica</a:t>
            </a:r>
            <a:br>
              <a:rPr sz="6600"/>
            </a:br>
            <a:r>
              <a:rPr b="1" lang="pl-PL" sz="4000" spc="-1" strike="noStrike">
                <a:solidFill>
                  <a:srgbClr val="ff6600"/>
                </a:solidFill>
                <a:latin typeface="Gill Sans"/>
              </a:rPr>
              <a:t>Zapadalność i umieralność w latach</a:t>
            </a:r>
            <a:endParaRPr b="1" lang="en-US" sz="4000" spc="-1" strike="noStrike">
              <a:solidFill>
                <a:srgbClr val="ff6600"/>
              </a:solidFill>
              <a:latin typeface="Gill San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614680" y="2708280"/>
          <a:ext cx="9864720" cy="613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2708280"/>
                    <a:ext cx="986472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Krztusiec</a:t>
            </a:r>
            <a:br>
              <a:rPr sz="7200"/>
            </a:br>
            <a:r>
              <a:rPr b="1" lang="pl-PL" sz="4000" spc="-1" strike="noStrike">
                <a:solidFill>
                  <a:srgbClr val="ff6600"/>
                </a:solidFill>
                <a:latin typeface="Gill Sans"/>
              </a:rPr>
              <a:t>Zapadalność i umieralność w latach</a:t>
            </a:r>
            <a:endParaRPr b="1" lang="en-US" sz="4000" spc="-1" strike="noStrike">
              <a:solidFill>
                <a:srgbClr val="ff6600"/>
              </a:solidFill>
              <a:latin typeface="Gill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68640" y="2212920"/>
            <a:ext cx="10382040" cy="64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Poliomyelitis</a:t>
            </a:r>
            <a:br>
              <a:rPr sz="6600"/>
            </a:br>
            <a:r>
              <a:rPr b="1" lang="pl-PL" sz="4000" spc="-1" strike="noStrike">
                <a:solidFill>
                  <a:srgbClr val="ff6600"/>
                </a:solidFill>
                <a:latin typeface="Gill Sans"/>
              </a:rPr>
              <a:t>Zapadalność i umieralność w latach</a:t>
            </a:r>
            <a:endParaRPr b="1" lang="en-US" sz="4000" spc="-1" strike="noStrike">
              <a:solidFill>
                <a:srgbClr val="ff6600"/>
              </a:solidFill>
              <a:latin typeface="Gill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98680" y="2500200"/>
            <a:ext cx="9240840" cy="57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Odra</a:t>
            </a:r>
            <a:br>
              <a:rPr sz="6600"/>
            </a:br>
            <a:r>
              <a:rPr b="1" lang="pl-PL" sz="4000" spc="-1" strike="noStrike">
                <a:solidFill>
                  <a:srgbClr val="ff6600"/>
                </a:solidFill>
                <a:latin typeface="Gill Sans"/>
              </a:rPr>
              <a:t>Zapadalność i umieralność w latach</a:t>
            </a:r>
            <a:endParaRPr b="1" lang="en-US" sz="4000" spc="-1" strike="noStrike">
              <a:solidFill>
                <a:srgbClr val="ff6600"/>
              </a:solidFill>
              <a:latin typeface="Gill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43040" y="2789280"/>
            <a:ext cx="9936360" cy="61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WZW typu B</a:t>
            </a:r>
            <a:br>
              <a:rPr sz="6600"/>
            </a:br>
            <a:r>
              <a:rPr b="1" lang="pl-PL" sz="4000" spc="-1" strike="noStrike">
                <a:solidFill>
                  <a:srgbClr val="ff6600"/>
                </a:solidFill>
                <a:latin typeface="Gill Sans"/>
              </a:rPr>
              <a:t>Zapadalność w latach</a:t>
            </a:r>
            <a:endParaRPr b="1" lang="en-US" sz="4000" spc="-1" strike="noStrike">
              <a:solidFill>
                <a:srgbClr val="ff6600"/>
              </a:solidFill>
              <a:latin typeface="Gill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09960" y="2498760"/>
            <a:ext cx="10440720" cy="63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Skąd się wzięły szczepionki?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Ludzie zaobserwowali, że osoby, które wyzdrowiały po przechorowaniu pewnych chorób już później na te choroby nie chorują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Po przechorowaniu niektórych chorób nie choruje się również na inne, podobne do nich choroby – </a:t>
            </a:r>
            <a:r>
              <a:rPr b="1" lang="pl-PL" sz="3800" spc="-1" strike="noStrike">
                <a:solidFill>
                  <a:srgbClr val="ff6600"/>
                </a:solidFill>
                <a:latin typeface="Gill Sans"/>
              </a:rPr>
              <a:t>odporność krzyżowa</a:t>
            </a:r>
            <a:r>
              <a:rPr b="0" lang="pl-PL" sz="3800" spc="-1" strike="noStrike">
                <a:solidFill>
                  <a:srgbClr val="000000"/>
                </a:solidFill>
                <a:latin typeface="Gill Sans"/>
              </a:rPr>
              <a:t> (denga i żółta gorączka, ospa prawdziwa i krowianka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ff6600"/>
                </a:solidFill>
                <a:latin typeface="Gill Sans"/>
              </a:rPr>
              <a:t>Na odporności krzyżowej oparta została szczepionka przeciw ospie prawdziwej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Skąd się wzięły szczepionki?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W 1774 r Beniamin Jesty, a w 1796 r. Edward Jenner zastosowali zakażenie zadrapanej skóry surowiczą zawartością  pęcherzy wymion krów zakażonych krowianką do uodpornienia przeciw ospi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W XVIII wieku co 7-10 dziecko umierało w Europie na ospę.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Jeszcze w XX w. ospa spowodowała  500 milionów zgonów na świecie.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W 1979 r. szczepienia umożliwiły całkowite wykorzenienie ospy prawdziwej w skali globu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41600" y="134640"/>
            <a:ext cx="100821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6600"/>
                </a:solidFill>
                <a:latin typeface="Gill Sans"/>
              </a:rPr>
              <a:t>Kolejny krok</a:t>
            </a:r>
            <a:endParaRPr b="1" lang="en-US" sz="6600" spc="-1" strike="noStrike">
              <a:solidFill>
                <a:srgbClr val="ff66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932200"/>
            <a:ext cx="1135368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04240" indent="-54828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Około 1870 r. Pasteur sformułował zasady szczepień opartych na osłabieniu wirulencji czynnika zakaźnego (wielokrotne pasażowanie, hodowlę w niekorzystnych warunkach, wysuszanie). Stosował  też zasadę sprawdzania szczepionek na zwierzętach.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804240" indent="-54828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3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Gill Sans"/>
              </a:rPr>
              <a:t>Pasteur opracował szczepionki atenuowane przeciw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231200" indent="-54828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Gill Sans"/>
              </a:rPr>
              <a:t>Kurzej cholerz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1200" indent="-54828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Gill Sans"/>
              </a:rPr>
              <a:t>Wąglikowi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31200" indent="-548280">
              <a:lnSpc>
                <a:spcPct val="90000"/>
              </a:lnSpc>
              <a:spcBef>
                <a:spcPts val="24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Gill Sans"/>
              </a:rPr>
              <a:t>Wściekliźni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woja nazwa użytkownika</cp:lastModifiedBy>
  <dcterms:modified xsi:type="dcterms:W3CDTF">2009-04-28T07:54:26Z</dcterms:modified>
  <cp:revision>34</cp:revision>
  <dc:subject/>
  <dc:title>Szczepić Dlaczego warto</dc:title>
</cp:coreProperties>
</file>