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912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4816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008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912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94816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41600" y="134640"/>
            <a:ext cx="1008216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912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4816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7008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0912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94816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41600" y="134640"/>
            <a:ext cx="1008216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Gill Sans"/>
              </a:rPr>
              <a:t>Click to edit the title text format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770760" indent="-52560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79720" indent="-52560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89040" indent="-52560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98000" indent="-52560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06600" indent="-52560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65240" y="196920"/>
            <a:ext cx="221616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54320" y="9204480"/>
            <a:ext cx="10750320" cy="550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Gill Sans"/>
              </a:rPr>
              <a:t>IV Europejski Tydzień Szczepień, 20-26 kwietnia 2009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69400" y="8328600"/>
            <a:ext cx="5155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6600"/>
                </a:solidFill>
                <a:latin typeface="Gill Sans"/>
              </a:rPr>
              <a:t>P. Stefanoff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3040" y="-19080"/>
            <a:ext cx="7020000" cy="763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46680" y="41292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ff6600"/>
                </a:solidFill>
                <a:latin typeface="Gill Sans"/>
              </a:rPr>
              <a:t>IV Europejski Tydzień Szczepień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ff6600"/>
                </a:solidFill>
                <a:latin typeface="Gill Sans"/>
              </a:rPr>
              <a:t>20-26 kwietnia 2009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9600" y="3004920"/>
            <a:ext cx="11736360" cy="30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Gill Sans"/>
              </a:rPr>
              <a:t>Click to edit the title text format</a:t>
            </a:r>
            <a:endParaRPr b="1" lang="en-US" sz="7200" spc="-1" strike="noStrike">
              <a:solidFill>
                <a:srgbClr val="003399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ill Sans"/>
              </a:rPr>
              <a:t>Click to edit the outline text format</a:t>
            </a:r>
            <a:endParaRPr b="1" lang="en-US" sz="4000" spc="-1" strike="noStrike">
              <a:solidFill>
                <a:srgbClr val="003399"/>
              </a:solidFill>
              <a:latin typeface="Gill Sans"/>
            </a:endParaRPr>
          </a:p>
          <a:p>
            <a:pPr lvl="1" marL="155088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2" marL="230184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052800" indent="-57168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803760" indent="-57168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3803760" indent="-571680">
              <a:spcBef>
                <a:spcPts val="6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3803760" indent="-571680">
              <a:spcBef>
                <a:spcPts val="6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zczepienia.pl/" TargetMode="External"/><Relationship Id="rId2" Type="http://schemas.openxmlformats.org/officeDocument/2006/relationships/hyperlink" Target="http://www.hpv.pl/" TargetMode="External"/><Relationship Id="rId3" Type="http://schemas.openxmlformats.org/officeDocument/2006/relationships/hyperlink" Target="http://www.rotawirusy.pl/" TargetMode="External"/><Relationship Id="rId4" Type="http://schemas.openxmlformats.org/officeDocument/2006/relationships/hyperlink" Target="http://www.kleszcze.pl/" TargetMode="External"/><Relationship Id="rId5" Type="http://schemas.openxmlformats.org/officeDocument/2006/relationships/hyperlink" Target="http://www.zdrowie.med.pl/" TargetMode="External"/><Relationship Id="rId6" Type="http://schemas.openxmlformats.org/officeDocument/2006/relationships/hyperlink" Target="http://www.edziecko.pl/" TargetMode="External"/><Relationship Id="rId7" Type="http://schemas.openxmlformats.org/officeDocument/2006/relationships/hyperlink" Target="http://www.mediweb.pl/" TargetMode="External"/><Relationship Id="rId8" Type="http://schemas.openxmlformats.org/officeDocument/2006/relationships/hyperlink" Target="http://www.biomedical.pl/" TargetMode="External"/><Relationship Id="rId9" Type="http://schemas.openxmlformats.org/officeDocument/2006/relationships/hyperlink" Target="http://www.maluchy.pl/" TargetMode="External"/><Relationship Id="rId10" Type="http://schemas.openxmlformats.org/officeDocument/2006/relationships/hyperlink" Target="http://www.teraz-zdrowie.pl/" TargetMode="External"/><Relationship Id="rId11" Type="http://schemas.openxmlformats.org/officeDocument/2006/relationships/hyperlink" Target="http://www.szczepienia.prv.pl/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600" y="2860200"/>
            <a:ext cx="11736360" cy="30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3399"/>
                </a:solidFill>
                <a:latin typeface="Gill Sans"/>
              </a:rPr>
              <a:t>Internet źródłem wiedzy o szczepionkach</a:t>
            </a:r>
            <a:endParaRPr b="1" lang="en-US" sz="7200" spc="-1" strike="noStrike">
              <a:solidFill>
                <a:srgbClr val="003399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50840" y="6676920"/>
            <a:ext cx="9102600" cy="24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3399"/>
                </a:solidFill>
                <a:latin typeface="Gill Sans"/>
              </a:rPr>
              <a:t>Dr n. med. Paweł Stefanoff</a:t>
            </a:r>
            <a:endParaRPr b="1" lang="en-US" sz="4800" spc="-1" strike="noStrike">
              <a:solidFill>
                <a:srgbClr val="003399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3399"/>
                </a:solidFill>
                <a:latin typeface="Gill Sans"/>
              </a:rPr>
              <a:t>Zakład Epidemiologii</a:t>
            </a:r>
            <a:endParaRPr b="1" lang="en-US" sz="3300" spc="-1" strike="noStrike">
              <a:solidFill>
                <a:srgbClr val="003399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3399"/>
                </a:solidFill>
                <a:latin typeface="Gill Sans"/>
              </a:rPr>
              <a:t>Narodowego Instytutu Zdrowia Publicznego</a:t>
            </a:r>
            <a:endParaRPr b="1" lang="en-US" sz="33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6600"/>
                </a:solidFill>
                <a:latin typeface="Gill Sans"/>
              </a:rPr>
              <a:t>Pierwszy niezależny portal informacyjny o szczepieniach</a:t>
            </a:r>
            <a:endParaRPr b="1" lang="en-US" sz="54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W ramach projektu Europejskiego VACSATC powstał port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treści opracowywane przez uznanych ekspertów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informacje o szczepionkach zarejestrowanych w Polsc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informacje ogólne o szczepieniach i szczepionkach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02680" y="3562200"/>
            <a:ext cx="3527280" cy="7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6600"/>
                </a:solidFill>
                <a:latin typeface="Gill Sans"/>
              </a:rPr>
              <a:t>www.szczepienia.pzh.gov.pl</a:t>
            </a:r>
            <a:endParaRPr b="1" lang="en-US" sz="5400" spc="-1" strike="noStrike">
              <a:solidFill>
                <a:srgbClr val="ff6600"/>
              </a:solidFill>
              <a:latin typeface="Gill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19400" y="2041560"/>
            <a:ext cx="8928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3600" y="257292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Dziękuję za uwagę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0320" y="4805280"/>
            <a:ext cx="11353680" cy="144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99cc00"/>
                </a:solidFill>
                <a:latin typeface="Gill Sans"/>
              </a:rPr>
              <a:t>www.</a:t>
            </a:r>
            <a:r>
              <a:rPr b="0" lang="pl-PL" sz="4200" spc="-1" strike="noStrike">
                <a:solidFill>
                  <a:srgbClr val="99cc00"/>
                </a:solidFill>
                <a:latin typeface="Gill Sans"/>
              </a:rPr>
              <a:t>szczepienia.pzh.gov.p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8320" y="674856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02320" y="6748560"/>
            <a:ext cx="2949480" cy="1968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9815400" y="6748560"/>
            <a:ext cx="2713320" cy="195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549600" y="6748560"/>
            <a:ext cx="2562120" cy="19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6600"/>
                </a:solidFill>
                <a:latin typeface="Gill Sans"/>
              </a:rPr>
              <a:t>Badanie opinii społecznej, jesień 2008 r.</a:t>
            </a:r>
            <a:endParaRPr b="1" lang="en-US" sz="60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85600" y="2932200"/>
            <a:ext cx="119538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Badanie w ramach Europejskiego projektu Vaccine Safety – Attitudes, Training, Communication (VACSATC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Przeprowadzone metodą wywiadów telefonicznych wspomaganych komputerowo (CATI) przez firmę ARC Rynek i Opinia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Reprezentatywna grupa 1045 rodziców dzieci do 2 r.ż.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Średni wiek rodziców wynosił 28,9 lat (OS ±5,4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6600"/>
                </a:solidFill>
                <a:latin typeface="Gill Sans"/>
              </a:rPr>
              <a:t>Co jest dla Pani/Pana głównym źródłem informacji na temat szczepień?</a:t>
            </a:r>
            <a:br>
              <a:rPr sz="4400"/>
            </a:br>
            <a:r>
              <a:rPr b="1" lang="pl-PL" sz="3200" spc="-1" strike="noStrike">
                <a:solidFill>
                  <a:srgbClr val="ff6600"/>
                </a:solidFill>
                <a:latin typeface="Gill Sans"/>
              </a:rPr>
              <a:t>(</a:t>
            </a:r>
            <a:r>
              <a:rPr b="1" i="1" lang="pl-PL" sz="3200" spc="-1" strike="noStrike">
                <a:solidFill>
                  <a:srgbClr val="ff6600"/>
                </a:solidFill>
                <a:latin typeface="Gill Sans"/>
              </a:rPr>
              <a:t>spontaniczna odpowiedź</a:t>
            </a:r>
            <a:r>
              <a:rPr b="1" lang="pl-PL" sz="3200" spc="-1" strike="noStrike">
                <a:solidFill>
                  <a:srgbClr val="ff6600"/>
                </a:solidFill>
                <a:latin typeface="Gill Sans"/>
              </a:rPr>
              <a:t>)</a:t>
            </a:r>
            <a:endParaRPr b="1" lang="en-US" sz="3200" spc="-1" strike="noStrike">
              <a:solidFill>
                <a:srgbClr val="ff6600"/>
              </a:solidFill>
              <a:latin typeface="Gill San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50760" y="2762280"/>
          <a:ext cx="11096640" cy="63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2762280"/>
                    <a:ext cx="1109664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6600"/>
                </a:solidFill>
                <a:latin typeface="Gill Sans"/>
              </a:rPr>
              <a:t>Które szczepienia Pani/Pana zdaniem są obowiązkowe?</a:t>
            </a:r>
            <a:br>
              <a:rPr sz="4400"/>
            </a:br>
            <a:r>
              <a:rPr b="1" lang="pl-PL" sz="2800" spc="-1" strike="noStrike">
                <a:solidFill>
                  <a:srgbClr val="ff6600"/>
                </a:solidFill>
                <a:latin typeface="Gill Sans"/>
              </a:rPr>
              <a:t>(</a:t>
            </a:r>
            <a:r>
              <a:rPr b="1" i="1" lang="pl-PL" sz="2800" spc="-1" strike="noStrike">
                <a:solidFill>
                  <a:srgbClr val="ff6600"/>
                </a:solidFill>
                <a:latin typeface="Gill Sans"/>
              </a:rPr>
              <a:t>spontaniczna odpowiedź</a:t>
            </a:r>
            <a:r>
              <a:rPr b="1" lang="pl-PL" sz="2800" spc="-1" strike="noStrike">
                <a:solidFill>
                  <a:srgbClr val="ff6600"/>
                </a:solidFill>
                <a:latin typeface="Gill Sans"/>
              </a:rPr>
              <a:t>)</a:t>
            </a:r>
            <a:endParaRPr b="1" lang="en-US" sz="2800" spc="-1" strike="noStrike">
              <a:solidFill>
                <a:srgbClr val="ff66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336680" y="3005280"/>
          <a:ext cx="1122372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3005280"/>
                    <a:ext cx="1122372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6600"/>
                </a:solidFill>
                <a:latin typeface="Gill Sans"/>
              </a:rPr>
              <a:t>Które choroby, przeciw którym szczepi się dzieci uważa Pani/Pan za groźne?</a:t>
            </a:r>
            <a:br>
              <a:rPr sz="4400"/>
            </a:br>
            <a:r>
              <a:rPr b="1" lang="pl-PL" sz="2800" spc="-1" strike="noStrike">
                <a:solidFill>
                  <a:srgbClr val="ff6600"/>
                </a:solidFill>
                <a:latin typeface="Gill Sans"/>
              </a:rPr>
              <a:t>(</a:t>
            </a:r>
            <a:r>
              <a:rPr b="1" i="1" lang="pl-PL" sz="2800" spc="-1" strike="noStrike">
                <a:solidFill>
                  <a:srgbClr val="ff6600"/>
                </a:solidFill>
                <a:latin typeface="Gill Sans"/>
              </a:rPr>
              <a:t>spontaniczna odpowiedź</a:t>
            </a:r>
            <a:r>
              <a:rPr b="1" lang="pl-PL" sz="2800" spc="-1" strike="noStrike">
                <a:solidFill>
                  <a:srgbClr val="ff6600"/>
                </a:solidFill>
                <a:latin typeface="Gill Sans"/>
              </a:rPr>
              <a:t>)</a:t>
            </a:r>
            <a:endParaRPr b="1" lang="en-US" sz="2800" spc="-1" strike="noStrike">
              <a:solidFill>
                <a:srgbClr val="ff6600"/>
              </a:solidFill>
              <a:latin typeface="Gill San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82680" y="2932200"/>
          <a:ext cx="11326680" cy="59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932200"/>
                    <a:ext cx="11326680" cy="59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6600"/>
                </a:solidFill>
                <a:latin typeface="Gill Sans"/>
              </a:rPr>
              <a:t>Opinie rodziców na temat najczęściej stosowanych szczepionek</a:t>
            </a:r>
            <a:endParaRPr b="1" lang="en-US" sz="4400" spc="-1" strike="noStrike">
              <a:solidFill>
                <a:srgbClr val="ff66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01600" y="2860560"/>
          <a:ext cx="11304720" cy="62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860560"/>
                    <a:ext cx="113047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Wnioski z badania…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Głównym źródłem informacji o szczepieniach są lekarze pierwszego kontaktu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Konieczne jest zwiększenie dostępności rzetelnych informacji o szczepienia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Internet jest zdecydowanie słabo wykorzystanym medi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6600"/>
                </a:solidFill>
                <a:latin typeface="Gill Sans"/>
              </a:rPr>
              <a:t>Zalety informacji aktualizowanej w internecie</a:t>
            </a:r>
            <a:endParaRPr b="1" lang="en-US" sz="54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ff6600"/>
                </a:solidFill>
                <a:latin typeface="Gill Sans"/>
              </a:rPr>
              <a:t>Dostępność </a:t>
            </a: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24 godz. na dobę, 7 dni w tygodniu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Możliwość </a:t>
            </a:r>
            <a:r>
              <a:rPr b="1" lang="pl-PL" sz="4200" spc="-1" strike="noStrike">
                <a:solidFill>
                  <a:srgbClr val="ff6600"/>
                </a:solidFill>
                <a:latin typeface="Gill Sans"/>
              </a:rPr>
              <a:t>stałej aktualizacji </a:t>
            </a: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prezentowanych treści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Możliwość dostosowania treści do różnych grup odbiorcó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6600"/>
                </a:solidFill>
                <a:latin typeface="Gill Sans"/>
              </a:rPr>
              <a:t>Najpopularniejsze strony poświęcone szczepieniom</a:t>
            </a:r>
            <a:endParaRPr b="1" lang="en-US" sz="60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17600" y="2932200"/>
            <a:ext cx="95058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79596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Portale firm farmaceutycznych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www.szczepienia.p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www.hpv.p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www.rotawirusy.p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kleszcze.p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marL="79596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Strony z poradami medycznymi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www.zdrowie.med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edziecko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7"/>
              </a:rPr>
              <a:t>mediweb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8"/>
              </a:rPr>
              <a:t>www.biomedical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9"/>
              </a:rPr>
              <a:t>www.maluchy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10"/>
              </a:rPr>
              <a:t>www.teraz-zdrowie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marL="79596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Strony ruchów antyszczepionkowych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1218240" indent="-542520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 u="sng">
                <a:solidFill>
                  <a:srgbClr val="009999"/>
                </a:solidFill>
                <a:uFillTx/>
                <a:latin typeface="Gill Sans"/>
                <a:hlinkClick r:id="rId11"/>
              </a:rPr>
              <a:t>www.szczepienia.prv.pl</a:t>
            </a:r>
            <a:r>
              <a:rPr b="0" lang="pl-PL" sz="21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woja nazwa użytkownika</cp:lastModifiedBy>
  <dcterms:modified xsi:type="dcterms:W3CDTF">2009-04-28T07:54:49Z</dcterms:modified>
  <cp:revision>59</cp:revision>
  <dc:subject/>
  <dc:title>Szczepić Dlaczego warto</dc:title>
</cp:coreProperties>
</file>